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F8285-2F2D-4A01-AEBA-D1C44B855B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38C04-BC1D-4B75-810B-0099B107D3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etails in the manpage, available by typing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 hexdump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 xxd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a *nix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EA031-7D0A-4B3B-BF99-95D5877E3B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3A118-EFBD-4497-9F81-832BD9DF5A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ll list of format specif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ources.redhat.com/gdb/current/onlinedocs/gdb.html#SEC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C0F24-426C-419D-B3A4-9A3127912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ll list of format specif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ources.redhat.com/gdb/current/onlinedocs/gdb.html#SEC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 x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MT is a repeat count followed by a format letter and a size l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t letters are o(octal), x(hex), d(decimal), u(unsigned decimal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(binary), f(float), a(address), i(instruction), c(char) and s(string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ze letters are b(byte), h(halfword), w(word), g(giant, 8 byt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ly ca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 use /r and /m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35BE7-A7B5-48B7-80F1-E9A097061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19D83-E494-4E97-B0FB-E84C005880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69772-2348-428B-8842-826A37EA7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C2644-806F-45E9-AA6E-BA351171EF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ome versions of the gnu tools, instead of using like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 -0x4(%ebp)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show it as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 0xFFFFFFFC(%ebp)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more links talking about the differ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w00w00.org/files/articles/att-vs-intel.txt &lt;- haxors ;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en.wikipedia.org/wiki/X86_assembly_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ig9.com/articles/att-synt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609B0-A4E4-41FF-BDCE-985D71E26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etails in the manpage, available by typing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 gcc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a *nix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B6866-BFC2-4E29-9C4D-0EE7A960A5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etails in the manpage, available by typing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 objdump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a *nix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ide: the equivalent on Mac OS X is ot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FC7B-B768-401A-AA22-21C2212E3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CD0F-D15E-4C47-8B2D-4256B59BF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9763-0AB4-4615-BBED-FB1133FCA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69F1-DAB7-462F-9747-0F05A7C2E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5E17-4605-44F6-B1D2-D4F4CE2B3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F985-B7AF-4C69-A89D-D345B309B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4389-D564-429A-94B8-A03A71DB5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E161-DCAB-48A2-B693-5D8248EB4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64D7-CEE9-4DBC-A965-EA22F0328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AB2B-BB02-4922-A4F8-EF45783BD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479E-124D-41F2-A9E3-8DA9185C4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345C-C0F7-42E0-B034-A544FBB2C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31062-383E-46F7-8905-9D59BC7FD0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 x86 Part 3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Linux Tools &amp;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eno Kovah – 2009/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kovah at gm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0" y="65818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ed for Public Release: 10-3348. Distribution Un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dump -d -M intel hel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llo:     file format elf32-i38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ssembly of section .in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8048274 &lt;_init&gt;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48274:       55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sh   eb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48275:       89 e5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    ebp,e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48277:       53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sh   eb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48278:       83 ec 04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    esp,0x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4827b:       e8 00 00 00 0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   8048280 &lt;_init+0xc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8048374 &lt;main&gt;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48374:       8d 4c 24 04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    ecx,[esp+0x4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48378:       83 e4 f0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   esp,0xfffffff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4837b:       ff 71 fc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sh   DWORD PTR [ecx-0x4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4837e:       55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sh   eb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4837f:       89 e5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    ebp,e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48381:       51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sh   ec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36383-5181-4680-A2FE-A7408B6932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xdump &amp; xx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imes useful to look at a hexdump to see opcodes/operands or raw file format in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xdump, hd - ASCII, decimal, hexadecimal, octal du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xdump -C for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onical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ex &amp; ASCII 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for a quick peek at the h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xd - make a hexdump or do the reve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s a quick and dirty hex ed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xd hello &gt; hello.du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t hello.du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xd -r hello.dump &gt; he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A4259-BB07-4266-A979-08030A8880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DB - the GNU debug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mand line debugger - quite a bit less user-friendly for beginn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wrappers such as ddd but I tried them back when I was learning asm and did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find them to be helpful. YMM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tax for starting a program in GDB in this cla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b &lt;program name&gt; -x &lt;command 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b Example1 -x myCm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01899-53C4-4139-AA83-50BF5FDB10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4"/>
          <p:cNvSpPr/>
          <p:nvPr/>
        </p:nvSpPr>
        <p:spPr>
          <a:xfrm>
            <a:off x="3240" y="6396120"/>
            <a:ext cx="17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Book p. 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out GDB -x &lt;command file&gt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what more memorable long form is      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command=&lt;command file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command file&gt; is a plaintext file with a list of commands that GDB should execute upon starting up. Sort of like scripting the debugg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olutel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senti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making GDB reasonable to work with for extended periods of time (I used GDB for many years copying and pasting my command list every time I started GDB, so I was super ultra happy when I found this op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2C298-E38A-4F94-8CB4-9DFB8268D5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DB comm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internal navigation of available comm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run th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 &lt;argv&gt;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run the program passing the arguments in &lt;argv&g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e. for Example 2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1 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uld be what we used in 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BD017-64E2-450C-9C2F-D9F79BA08E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DB command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 display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lay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ints out a statement every time the debugger st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lay/FMT EX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MT can be a combination of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- display as asm i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or d - display as hex or deci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or h or w - display as byte, halfword (2 bytes), word (4 bytes - as opposed to intel calling that a double word. Confusing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- character string (will just keep reading till it hits a null charac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 - display &lt;number&gt; worth of things (instructions, bytes, words, strings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 display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see all outstanding display statements and their nu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isplay &lt;num&gt;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remove a display statement by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FAE85-5905-479B-AAAF-9E2C28771E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DB command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/FMT EX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x for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ine memory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t ex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ways assumes the given value is a memory address, and it dereferences it to look at the valu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hat memory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t/FMT EX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print the value of an ex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esn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 try to dereference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h commands take the same type of format specifier as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gdb) x/x $eb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xbffbcb78:     0xbffbcbe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gdb) print/x $eb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$2 = 0xbffbcb7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gdb) x/x $eax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x1:    Cannot access memory at address 0x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gdb) print/x $e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$3 = 0x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1EC9A-088E-42B3-8A4F-A57E8330FD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DB command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all breakpoint-related commands see 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lp breakpoints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eak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- set a breakpoi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debugging symbols you can do things like 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 main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 Without them you can do things lik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 *&lt;address&gt;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to break at a given memory addres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te: gdb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 interpretation of where a function begins may exclude the function prolog like 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sh ebp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fo breakpoints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fo b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- show currently set breakpoi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"delete &lt;num&gt; - deletes breakpoint number &lt;num&gt;, where &lt;num&gt; came from "info breakpoints"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D9BE3-3629-4930-B533-BD29D81B9D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DB 7 comm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or GDB 7, released Sept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nks to Dave Keppler for notifying me of the availability of these new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erse-ste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'rs') -- Step program backward until it reaches the beginning of a previous source li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erse-step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- Step backward exactly one instru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erse-contin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'rc') -- Continue program being debugged but run it in rever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erse-finis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- Execute backward until just before the selected stack frame is call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58FD7-5C48-4210-9EBE-E82FB1E3DF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DB 7 command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erse-nex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'rn') -- Step program backward, proceeding through subroutine cal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erse-next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'rni') -- Step backward one instruction, but proceed through called subroutin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t exec-direction (forward/revers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- Set direction of execution. All subsequent execution commands (continue, step, until etc.) will run the program being debugged in the selected direc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 "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assem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 command now supports an optional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modifier to print mixed source+assemb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assem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 command with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ifier, print the raw instructions in hex as well as in symbolic for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 disassembl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full syn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A862E-8E1E-4A45-856F-DA4BAE7F07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l materials is licensed under a Creative Commons 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are Alike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licen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creativecommons.org/licenses/by-sa/3.0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C2A71-577D-4346-955D-241E41C591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523880" y="2049480"/>
            <a:ext cx="632484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itial GDB commands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lay/10i $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lay/x $e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lay/x $eb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lay/x $ec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lay/x $ed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lay/x $e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lay/x $e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lay/x $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lay/32xw $e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 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576FC-8237-479E-9FD3-7ADC3A3DEF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ample run with commands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43480" y="0"/>
            <a:ext cx="6872760" cy="66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gdb) 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ing program: /home/user/hel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eakpoint 1, main () at hello.c: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4               printf("hello\n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: x/32xw $e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xbf9a2550:     0xb7f46db0      0xbf9a2570      0xbf9a25c8      0xb7df24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xbf9a2560:     0xb7f53ce0      0x080483b0      0xbf9a25c8      0xb7df24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nip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: /x $ebp = 0xbf9a255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: /x $esi = 0xb7f53ce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: /x $edi = 0x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: /x $edx = 0xbf9a259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: /x $ecx = 0xbf9a25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: /x $ebx = 0xb7f26ff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: /x $eax = 0x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: x/10i $e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x8048385 &lt;main+17&gt;:    movl   $0x8048460,(%es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x804838c &lt;main+24&gt;:    call   0x80482d4 &lt;puts@pl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x8048391 &lt;main+29&gt;:    mov    $0x1234,%e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x8048396 &lt;main+34&gt;:    add    $0x4,%e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x8048399 &lt;main+37&gt;:    pop    %ec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x804839a &lt;main+38&gt;:    pop    %eb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x804839b &lt;main+39&gt;:    lea    -0x4(%ecx),%e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x804839e &lt;main+42&gt;:    ret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x804839f:      nop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x80483a0 &lt;__libc_csu_fini&gt;:    push   %eb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4"/>
          <p:cNvSpPr/>
          <p:nvPr/>
        </p:nvSpPr>
        <p:spPr>
          <a:xfrm>
            <a:off x="4419720" y="304920"/>
            <a:ext cx="3124080" cy="914400"/>
          </a:xfrm>
          <a:prstGeom prst="wedgeRoundRectCallout">
            <a:avLst>
              <a:gd name="adj1" fmla="val -76115"/>
              <a:gd name="adj2" fmla="val 4305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line printed here if source is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F38C4-E4F3-4303-9D3A-05F7A7B512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steps one asm instruction at a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 always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 into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brout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steps one source line at a time (if no source is available, works like step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ti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steps until the next source line, not stepping into subrout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no source available, this will work like a stepi that will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 ove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brout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602A0-0BBF-448B-85B7-E5B35D15FF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DB misc comm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disassembly-flavor inte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use intel syntax rather than AT&amp;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ain, not using now, just good to k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run until you hit another breakpoint or the program 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tra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print a trace of the call stack, showing all the functions which were called before the current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80339-9ADE-4367-9865-F584AAB0EA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b time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nning examples with GD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E15E4-708B-4D93-ACC1-90FE00393F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l vs. AT&amp;T Synt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l: Destination &lt;- Source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. Think algebra or C: y = 2x +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   ebp, 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   esp, 0x14 ; (esp = esp + 0x1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&amp;T: Source(s) -&gt; Dest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nix/GNU. Think elementary school: 1 + 2 =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  %esp, %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  $0x14,%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registers get a % prefix and immediates get a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 classes will use Intel syntax except in this s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i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important to know both, so you can read documents in either form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90155-6906-4D0D-A654-260C7FFFF9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l vs AT&amp;T Syntax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my opinion the hardest-to-read difference is for r/m32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intel i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expressed 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base + index*scale + disp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T&amp;T i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expressed 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isp(base, index,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   DWORD PTR [ebx+esi*4-0xe8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   *-0xe8(%ebx,%esi,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    eax, DWORD PTR [ebp+0x8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    0x8(%ebp), %e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    eax, [ebx-0xe8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    -0xe8(%ebx), %e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9DACE-68A8-4298-9545-71762B98DE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l vs AT&amp;T Syntax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instructions which can operate on different sizes, the mnemonic will have an indicator of the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b - operates on b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/movw - operates on word (2 by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l - operates on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dword) (4 by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does indicate size with things like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 dword ptr [eax], but i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just not in the actual mnemonic of the i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E5093-6E84-4D5D-BE2C-441615B062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cc - GNU project C and C++ compi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ailable for many *nix systems (Linux/BSD/OSX/Solar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s many other architectures besides x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C/C++ options, some architecture-specific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option we care about is building debug symbols. Use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ggdb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mand line argu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ally all of the VisualStudio options in the project properties page are just fancy wrappers around giving their compiler command line arguments. The equivalent on *nix is for to developers create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fil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which are a configuration or configurations which describes which options will be used for compilation, how files will be linked together, etc. We wo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get that complicated in this class, so we can just specify command line arguments manu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065D3-6270-4E4D-A1EE-655456A858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4"/>
          <p:cNvSpPr/>
          <p:nvPr/>
        </p:nvSpPr>
        <p:spPr>
          <a:xfrm>
            <a:off x="3240" y="6396120"/>
            <a:ext cx="17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Book p. 5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cc basic us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cc -o &lt;output filename&gt; &lt;input file name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cc -o hello hello.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-o and output filename are unspecified, default output filename is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ou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for legacy reas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we will be us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cc -ggdb -o &lt;filename&gt; &lt;filename&gt;.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cc -ggdb -o Example1 Example1.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1C631-C0C5-4560-9891-290C0BB37C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dump - display information from object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 fil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 be an intermediate file created during compilation but before linking, or a fully linked execu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our purposes means any ELF file - the executable format standard for Lin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in thing we care about is -d to disassemble a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override the output syntax with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M inte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od for getting an alternative perspective on what an instruction is doing, while learning AT&amp;T syn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83A27-40B3-41C1-A709-A5B1B39CBF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4"/>
          <p:cNvSpPr/>
          <p:nvPr/>
        </p:nvSpPr>
        <p:spPr>
          <a:xfrm>
            <a:off x="3240" y="6396120"/>
            <a:ext cx="17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Book p. 6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dump -d hel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llo:     file format elf32-i38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ssembly of section .in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8048274 &lt;_init&gt;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48274:       55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sh   %eb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48275:       89 e5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    %esp,%eb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48277:       53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sh   %eb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48278:       83 ec 04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    $0x4,%e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4827b:       e8 00 00 00 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   8048280 &lt;_init+0xc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8048374 &lt;main&gt;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48374:       8d 4c 24 04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    0x4(%esp),%ec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48378:       83 e4 f0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   $0xfffffff0,%e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4837b:       ff 71 fc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shl  -0x4(%ec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4837e:       55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sh   %eb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4837f:       89 e5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    %esp,%eb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48381:       51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sh   %ec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05720-AA4F-4E3A-A5EA-794C98325C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1T16:28:55Z</dcterms:created>
  <dc:creator>yo mamma</dc:creator>
  <dc:description/>
  <dc:language>en-US</dc:language>
  <cp:lastModifiedBy>bla</cp:lastModifiedBy>
  <dcterms:modified xsi:type="dcterms:W3CDTF">2012-05-12T23:33:57Z</dcterms:modified>
  <cp:revision>55</cp:revision>
  <dc:subject/>
  <dc:title>PowerPoint Presentation</dc:title>
</cp:coreProperties>
</file>