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4E5A-EFCC-471F-95A8-4DDC64D07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1DF0-8ACF-4FD9-AD92-AB5F37C02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hexdum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xx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A49F-21CB-4FE7-B0E9-2B268B10B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A075-EE38-43E5-AA11-9C98761BF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list of format spec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ources.redhat.com/gdb/current/onlinedocs/gdb.html#SEC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8FEA-D1FD-46F9-9C47-EDB162B72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list of format spec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ources.redhat.com/gdb/current/onlinedocs/gdb.html#SEC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x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MT is a repeat count followed by a format letter and a size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 letters are o(octal), x(hex), d(decimal), u(unsigned decima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(binary), f(float), a(address), i(instruction), c(char) and s(str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letters are b(byte), h(halfword), w(word), g(giant, 8 by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ca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use /r and /m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A6FB-C9FA-4EDB-835C-F0FF8764F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051C-462E-4A03-94D9-E1810A385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A51F-5CE8-4D96-9391-12F478FFD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D1EA-DC38-425F-8FBD-38A1572F1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versions of the gnu tools, instead of using lik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 -0x4(%ebp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how it a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 0xFFFFFFFC(%ebp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links talking about the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00w00.org/files/articles/att-vs-intel.txt &lt;- haxors 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X86_assembly_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ig9.com/articles/att-syn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B3E2-DFF3-484B-8684-CFE44E9F6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gc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4DAF-1570-45D6-89B1-86EF1F9D3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objdum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de: the equivalent on Mac OS X is o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839-3C82-45AA-99F7-8C8A105A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F8C-FA93-455F-A3DA-6745B77B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C85-0488-45AF-8726-D348736B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205-E728-4580-BBF5-BF870A87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DB4-63F8-48FB-9C17-4BD7F0E8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C55-D379-476F-B220-0233EB4E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BDF-91AE-43C8-87BE-E57AB908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A23-7F93-498C-9D2E-DE4BF5F5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F33-0546-4968-B342-568A2C78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7E4-FE06-48F2-B304-A98916BB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818-2664-4B60-80E0-A247A7E3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8B1-C681-453F-97A2-A84973EC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5508-16D9-4F59-BF5D-6E2738EF7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x86 Part 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nux Tools &amp;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eno Kovah – 2009/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kovah at g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6581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d for Public Release: 10-3348. Distribution Un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d -M intel h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lo:     file format elf32-i3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sembly of section .in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274 &lt;_init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4:       55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5:       89 e5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ebp,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7:       53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8:       83 ec 04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    esp,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b:       e8 00 00 00 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  8048280 &lt;_init+0x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374 &lt;main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4:       8d 4c 24 04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    ecx,[esp+0x4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8:       83 e4 f0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   esp,0xfffffff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b:       ff 71 fc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DWORD PTR [ecx-0x4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e:       55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f:       89 e5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ebp,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81:       51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7A94-5A4B-4220-B649-19F66A0B1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xdump &amp; xx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useful to look at a hexdump to see opcodes/operands or raw file forma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xdump, hd - ASCII, decimal, hexadecimal, octal d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xdump -C fo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x &amp; ASCII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or a quick peek at the h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d - make a hexdump or do the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s a quick and dirty hex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d hello &gt; hello.d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hello.d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d -r hello.dump &gt;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F9DB-2D79-4F8C-BE95-BD551EE9D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- the GNU debu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and line debugger - quite a bit less user-friendly for begin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wrappers such as ddd but I tried them back when I was learning asm and did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find them to be helpful. YM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 for starting a program in GDB in this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b &lt;program name&gt; -x &lt;command 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b Example1 -x myCm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FB0C-3CA6-4D9E-A475-B59B1EEBC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GDB -x &lt;command fil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what more memorable long form is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command=&lt;command fil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command file&gt; is a plaintext file with a list of commands that GDB should execute upon starting up. Sort of like scripting the debug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aking GDB reasonable to work with for extended periods of time (I used GDB for many years copying and pasting my command list every time I started GDB, so I was super ultra happy when I found this o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D3B9-33AB-4F97-80D3-C63E59BA8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ternal navigation of available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un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&lt;argv&gt;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un the program passing the arguments in &lt;argv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for Example 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1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be what we used in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8470-3810-4BC3-BF1F-0135F68C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nts out a statement every time the debugger s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/FMT E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T can be a combination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- display as asm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or d - display as hex or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or h or w - display as byte, halfword (2 bytes), word (4 bytes - as opposed to intel calling that a double word. Confusing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- character string (will just keep reading till it hits a null charac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 - display &lt;number&gt; worth of things (instructions, bytes, words, string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all outstanding display statements and their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splay &lt;num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move a display statement b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79C6-F3CF-42ED-BC27-C076B7B79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/FMT EX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x fo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memor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assumes the given value is a memory address, and it dereferences it to look at the valu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memory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/FMT EX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int the value of an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try to dereference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commands take the same type of format specifier a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x/x $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fbcb78:     0xbffbcbe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print/x $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 = 0xbffbcb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x/x $eax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1:    Cannot access memory at address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print/x $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3 =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9946-CB64-4BD9-80AD-1A4B31AF2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ll breakpoint-related commands see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 breakpoint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et a break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debugging symbols you can do things like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mai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Without them you can do things lik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*&lt;address&gt;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break at a given memory add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: gdb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interpretation of where a function begins may exclude the function prolog like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h ebp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 breakpoint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 b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how currently set break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delete &lt;num&gt; - deletes breakpoint number &lt;num&gt;, where &lt;num&gt; came from "info breakpoint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D0CC-9F2B-431E-96E8-97B51D3B5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7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or GDB 7, released Sep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Dave Keppler for notifying me of the availability of these new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s') -- Step program backward until it reaches the beginning of a previous source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ste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tep backward exactly one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contin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c') -- Continue program being debugged but run it in rever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Execute backward until just before the selected stack frame is ca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D4F3-78B4-4B4B-9CA1-6F87D677E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7 command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n') -- Step program backward, proceeding through subroutine ca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nex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ni') -- Step backward one instruction, but proceed through called subrouti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exec-direction (forward/revers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et direction of execution. All subsequent execution commands (continue, step, until etc.) will run the program being debugged in the selected dir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 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ssem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 command now supports an optional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modifier to print mixed source+assemb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ssem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 command with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r, print the raw instructions in hex as well as in symbolic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isassemb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full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E3EE-39A2-4D26-BE62-10A9284C4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materials is licensed under a Creative Commons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 Alik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ice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reativecommons.org/licenses/by-sa/3.0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E347-EA19-4F24-A9DA-720A12523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23880" y="2049480"/>
            <a:ext cx="63248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GDB command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10i $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c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32xw $e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0B10-2092-48B4-B354-A51869B53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run with command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43480" y="0"/>
            <a:ext cx="687276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program: /home/user/hel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point 1, main () at hello.c: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4               printf("hello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 x/32xw $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9a2550:     0xb7f46db0      0xbf9a2570      0xbf9a25c8      0xb7df2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9a2560:     0xb7f53ce0      0x080483b0      0xbf9a25c8      0xb7df2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ni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 /x $ebp = 0xbf9a25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: /x $esi = 0xb7f53ce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: /x $edi = 0x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: /x $edx = 0xbf9a25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 /x $ecx = 0xbf9a2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 /x $ebx = 0xb7f26ff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 /x $eax =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 x/10i $e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85 &lt;main+17&gt;:    movl   $0x8048460,(%es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8c &lt;main+24&gt;:    call   0x80482d4 &lt;puts@pl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1 &lt;main+29&gt;:    mov    $0x1234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6 &lt;main+34&gt;:    add    $0x4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9 &lt;main+37&gt;:    pop    %e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a &lt;main+38&gt;:    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b &lt;main+39&gt;:    lea    -0x4(%ecx)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e &lt;main+42&gt;:    ret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f:      nop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a0 &lt;__libc_csu_fini&gt;:    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419720" y="304920"/>
            <a:ext cx="3124080" cy="914400"/>
          </a:xfrm>
          <a:prstGeom prst="wedgeRoundRectCallout">
            <a:avLst>
              <a:gd name="adj1" fmla="val -76115"/>
              <a:gd name="adj2" fmla="val 43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line printed here if source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A394-D3F0-471B-9027-0A41EF5EC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one asm instruction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ways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int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rou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one source line at a time (if no source is available, works like ste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until the next source line, not stepping into subrou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source available, this will work like a stepi that will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ov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rou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041F-1633-4AFB-87E4-96AF017FB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misc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disassembly-flavor int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use intel syntax rather than AT&amp;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, not using now, just good t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run until you hit another breakpoint or the program 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tr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int a trace of the call stack, showing all the functions which were called before the current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8DD4-BA4F-4990-B4F2-F3EB717A5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tim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examples with G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BF1D-CFDA-4319-90CB-A4DD81073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. AT&amp;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: Destination &lt;- Sourc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. Think algebra or C: y = 2x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ebp, 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 esp, 0x14 ; (esp = esp + 0x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&amp;T: Source(s) -&gt;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nix/GNU. Think elementary school: 1 + 2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%esp, 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$0x14,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registers get a % prefix and immediates get a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classes will use Intel syntax except in thi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mportant to know both, so you can read documents in either for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4CFB-CFE3-4B79-9173-EEA19B8AD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 AT&amp;T Syntax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y opinion the hardest-to-read difference is for r/m32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tel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express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base + index*scale + dis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T&amp;T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express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(base, index,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  DWORD PTR [ebx+esi*4-0xe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  *-0xe8(%ebx,%esi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 eax, DWORD PTR [ebp+0x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 0x8(%ebp), 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    eax, [ebx-0xe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    -0xe8(%ebx), 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C077-0D0A-4D6F-8178-8D46EC4D7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 AT&amp;T Synta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structions which can operate on different sizes, the mnemonic will have an indicator of the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b - operates on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/movw - operates on word (2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l - operates 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word) (4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does indicate size with things lik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dword ptr [eax], but 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just not in the actual mnemonic of the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B33F-451B-46C0-A7F4-C1F2413EA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c - GNU project C and C++ comp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for many *nix systems (Linux/BSD/OSX/Sola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any other architectures besides x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/C++ options, some architecture-specif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option we care about is building debug symbols. Use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gg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line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ally all of the VisualStudio options in the project properties page are just fancy wrappers around giving their compiler command line arguments. The equivalent on *nix is for to developers creat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fi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which are a configuration or configurations which describes which options will be used for compilation, how files will be linked together, etc. We w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get that complicated in this class, so we can just specify command line arguments ma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9DBE-2EC3-4429-BA8A-54B6F4D4A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c basic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o &lt;output filename&gt; &lt;input file 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o hello hello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-o and output filename are unspecified, default output filename i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o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legacy reas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will be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ggdb -o &lt;filename&gt; &lt;filename&gt;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ggdb -o Example1 Example1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A62D-B724-4844-ACBD-F1F48FF12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 display information from object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fil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an intermediate file created during compilation but before linking, or a fully linked exec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ur purposes means any ELF file - the executable format standard for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thing we care about is -d to disassemble a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verride the output syntax with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 int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or getting an alternative perspective on what an instruction is doing, while learning AT&amp;T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B130-EE79-4522-8FF8-129D64590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d h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lo:     file format elf32-i3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sembly of section .in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274 &lt;_init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4:       55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5:       89 e5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7:       53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8:       83 ec 04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    $0x4,%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b:       e8 00 00 00 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  8048280 &lt;_init+0x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374 &lt;main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4:       8d 4c 24 04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    0x4(%esp),%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8:       83 e4 f0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   $0xfffffff0,%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b:       ff 71 fc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l  -0x4(%ec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e:       55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f:       89 e5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81:       51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1ED2-E1D0-4E49-A2AC-8EF403878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6:28:55Z</dcterms:created>
  <dc:creator>yo mamma</dc:creator>
  <dc:description/>
  <dc:language>en-US</dc:language>
  <cp:lastModifiedBy>bla</cp:lastModifiedBy>
  <dcterms:modified xsi:type="dcterms:W3CDTF">2012-05-12T23:33:57Z</dcterms:modified>
  <cp:revision>55</cp:revision>
  <dc:subject/>
  <dc:title>PowerPoint Presentation</dc:title>
</cp:coreProperties>
</file>